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534B-3F46-4E5C-9665-7717C8E2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C9F2-D909-401E-8B74-E39FEFF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4351-B7A5-4308-9441-286A5931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7BC1-8C9E-4D23-AE6E-20E21911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F6D1-CADE-4944-BE51-173DC4C4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EBA8-F168-4467-BD93-EFB26AF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1E5-1175-4E38-A7C5-795E99EA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405-781E-4144-81A4-36807A00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C38C-E8AB-4D80-A3C9-360FE56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C779-6D39-47A9-98DB-D978D351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545-2F94-40A6-BC1C-9645A82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617B-DC3C-40B6-8633-B3F254D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B8CF-5F3F-4F97-BE06-702893C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0F9F-E7F5-40D0-8C4D-46603B6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291-F3C9-423B-8448-6F0ABEF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761A-D56D-4658-8589-DEBBA51E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160-73E1-4201-9C12-07F1CAFD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46F4-90A7-4962-A8B0-225F3F0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FEEF-2182-4412-A518-86D3411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4A8F-182F-48F9-839D-0D7C569A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D7FC-F7C3-40A2-9E7B-39237CE5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5341-0D22-4E05-9680-824F2C2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979D-A9B6-4B86-A551-DEEC3A8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9775-9745-4A84-A963-F876F03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940-28E0-4AF1-8136-4C6971FAA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A359-93B8-407A-94B2-9A805C21B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904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# 1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repasamos para el examen del proximo vier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 en el PRESENTE y el PRETER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r (to pract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zar (to re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 (to p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Arial"/>
              </a:rPr>
              <a:t>Me llamo __________        Clase 8IM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Arial"/>
              </a:rPr>
              <a:t>La fecha es el 23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dad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143000"/>
          <a:ext cx="8915400" cy="46450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09760"/>
                <a:gridCol w="1447920"/>
                <a:gridCol w="1600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) Practicar </a:t>
                      </a:r>
                      <a:r>
                        <a:rPr b="0" i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(to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) remplazar </a:t>
                      </a:r>
                      <a:r>
                        <a:rPr b="0" i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(to replace</a:t>
                      </a:r>
                      <a:r>
                        <a:rPr b="0" i="1" lang="en-US" sz="1800" spc="-1" strike="noStrike">
                          <a:solidFill>
                            <a:srgbClr val="9999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r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r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838080"/>
          <a:ext cx="8991720" cy="49183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  <a:gridCol w="1498680"/>
                <a:gridCol w="1498680"/>
                <a:gridCol w="1498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) Jugar </a:t>
                      </a:r>
                      <a:r>
                        <a:rPr b="0" i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(to pl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) Ser </a:t>
                      </a:r>
                      <a:r>
                        <a:rPr b="1" i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(to 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) Ir </a:t>
                      </a:r>
                      <a:r>
                        <a:rPr b="1" i="1" lang="en-US" sz="1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(to 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r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r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el Proximo vier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ia (pais, capital, nacionalidad, ubicac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os (presente, preterito, preterito SER/IR, preterito –CAR, -GAR, -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ombres de Objeto Directo (lo, la, los ,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7:58:40Z</dcterms:created>
  <dc:creator>Helen Zumaeta</dc:creator>
  <dc:description/>
  <dc:language>en-US</dc:language>
  <cp:lastModifiedBy>Helen Zumaeta</cp:lastModifiedBy>
  <dcterms:modified xsi:type="dcterms:W3CDTF">2012-10-23T15:59:08Z</dcterms:modified>
  <cp:revision>7</cp:revision>
  <dc:subject/>
  <dc:title>Me llamo __________        Clase 8IM La fecha es el 23 de octubre del 2012</dc:title>
</cp:coreProperties>
</file>